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503CF-F1B9-493B-B711-19F77E8B37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F1998-2DD6-4530-BCA3-2AF9936C2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E704A-D9C3-42BA-8DFF-D022527B5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879C2-035E-4A08-94ED-744704E8B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774F6-3350-4C9B-88A4-A1F7636AE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706DF-92C9-4BD9-8A2E-FE5DBE8CD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thirteen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troubl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 garnish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is garnishme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legal procedure that withholds a portion of your earnings for the paym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f deb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e limits of garnish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lesser of 25% of your disposable income or 30 times the federal hourly minimum wag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may be able to get a “Claim of Exemption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laim of exemption (only if you meet all of the following condition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family is living in the stat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 the money you earn is needed to provide necessiti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bt was for a necessity (food, housing, medical care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arnishment has already been start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protection you hav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not be fired for any one garnishme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the law is enforc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forced by the Secretary of Labor through the Wage and Hour Division of the U.S. Department of Labo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6970320" y="6323400"/>
            <a:ext cx="1726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 assignment and wage attach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ssign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oes not have legal force from a court, as wage garnishment do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is a legal agreement between a lender and a debto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ermits lender to collect part of debtor’s wages from an employer if debtor fails to make regular pay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ployer is not legally compelled to honor a wage assignment arrange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ttach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on’t have a job, a lender can get a court order to “attach” or seize some of your property to pay off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7008480" y="6323400"/>
            <a:ext cx="168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ar repossess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ights of credit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seize car as soon as you defaul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’t commit a breach of the peace, i.e., use physical force or threats of for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keep car or resell 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not keep or sell any personal property in car (not including improvements such as a stereo or luggage rack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your righ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buy back car by paying the full amount owed on it plus repossession expens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your responsibili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ust still pay the “deficiency balance”—the amount of debt remaining even after your creditor has sold your ca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7012440" y="6323400"/>
            <a:ext cx="167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-earner bankruptc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it work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petition bankruptcy court to approve a plan to pay off your deb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urt accepts plan if you can pay off, in three years, at least as much as your creditors would receive if you filed straight bankruptc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on all your loans stop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ditors must contact the court, instead of you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paid as agreed, at the end of three years your debts are considered paid in ful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costs range between 15% and 25% of amount ow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sometimes salvage your credi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avoid being harassed by your credito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y being required to draw up a budget and determine exactly how much you can actually afford to pay, you are forced into being realistic about your budg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me lenders don’t react favorably when they see wage-earner bankruptcy on a credit report because some people use it to protect their property and pay less of their deb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699480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traight bankruptc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uration on your credit recor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p to 10 yea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you may still ow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ax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hild suppor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imon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llege loa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n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llegal deb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-signer oblig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you no longer ow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tail store char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ank credit card char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secured loa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paid hospital or physician bill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7005600" y="6323400"/>
            <a:ext cx="170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y consumers don’t pa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oss of income (48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employment (24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llness (16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 (divorce, death) (8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verextension (25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oor money manage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ergenc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erialis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ed for instant gratific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fective goods and services (20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raudulent use of credit (4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ther (3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994800" y="6323400"/>
            <a:ext cx="1718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rning signs of troubl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don’t know how much you ow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often pay bills lat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get a new loan to pay old loa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pay only the minimum balance due each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spend more than 20% of your net income (after paying rent or mortgage) on debt maintenan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would have an immediate financial problem if you lost your job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’re spending more than you earn, using your savings to pay for day-to-day expens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99732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first steps to take if you can’t pay your bill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ake another (close) look at your budge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im your expens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e realistic about what you can afford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ntact your credito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ell them why you can’t pay, that you intend to pay, and when/how much you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 will be able to pay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 may be able to work out a new payment schedul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f possible, continue to make the minimum payment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6985080" y="6323400"/>
            <a:ext cx="1712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 close look at your budge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6914520" y="6323400"/>
            <a:ext cx="179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D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143000" y="1143000"/>
          <a:ext cx="6858000" cy="405936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e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ua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b #1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b #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xed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 Insura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 pay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exible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ving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ating ou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 close look at your budget </a:t>
            </a:r>
            <a:r>
              <a:rPr b="0" i="1" lang="en-US" sz="2000" spc="-1" strike="noStrike">
                <a:solidFill>
                  <a:srgbClr val="30797b"/>
                </a:solidFill>
                <a:latin typeface="Verdana"/>
              </a:rPr>
              <a:t>(continued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6897240" y="6323400"/>
            <a:ext cx="1796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D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143000" y="1143000"/>
          <a:ext cx="6858000" cy="435600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e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ua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919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nsportation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us far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s &amp; oi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king &amp; toll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pair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othing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tertain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sonal item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redit counsel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ational Foundation for Credit Counseling (NFCC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gram that offers information on financial and consumer topics. All cities wit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populations of 50,000, and 1,500 locations nationwid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views your incom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lps you set up a realistic personal budge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contact your creditors and make arrangements for reduced payments on your bill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lps you plan for future expens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s, depending on location, may be available for no charge or reasonable fe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sted in yellow pages under “credit counseling” or call (800) 388-2227 for a loc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nearest you. Or you can visit NFCC online at nfcc.org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6992280" y="6323400"/>
            <a:ext cx="170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nsolidating your deb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oan consolid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 make only one payment, usually lower than the total amount of you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monthly debt pay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est to use only when combined with credi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own a home, consider your spending habits carefully before you take o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a home equity loan. You could end up with a loan and large credit card bills if you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don’t change your spending habi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tch out for “credit repair” compan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for-profi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debt consolidation loa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deb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advertise they can erase a poor credit history (no one can do this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700884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fair debt collection practic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 debt collector mu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 you, in writing, of the amount of your debt, the name of the creditor, and an explanation of your right to dispute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ispute the debt, the debt collector must give you written proof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 debt collector may no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tact you at unusual times or plac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isclose what you owe to anyone but your attorne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rass or threaten you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 false state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ive false information about you to anyon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srepresent the legal status of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ngage in any kind of unfair practice, such as trying to collect an amount greater than you ow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6974280" y="6323400"/>
            <a:ext cx="172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1-14T20:23:16Z</dcterms:modified>
  <cp:revision>33</cp:revision>
  <dc:subject/>
  <dc:title>lesson three</dc:title>
</cp:coreProperties>
</file>