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467480" y="299520"/>
            <a:ext cx="960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2"/>
          <p:cNvSpPr/>
          <p:nvPr/>
        </p:nvSpPr>
        <p:spPr>
          <a:xfrm>
            <a:off x="6931080" y="299880"/>
            <a:ext cx="140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Special Need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pping wise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rms you should know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arison Shopp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rand Na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eneric Br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count Sto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rift Sto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675120" y="6323400"/>
            <a:ext cx="199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4-1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1147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deciding on the type of item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ality — What level of quality do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dium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hig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antity — How much can I affor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ing — Should I wait until there is a sale on the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rand Name — Should I choose an item with a well-known name,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mmendation — Do I know anyone who already owns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— Is there a warranty on the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— What do consumer magazines say about the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602760" y="6323400"/>
            <a:ext cx="20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4-2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son-shopping chart 1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60924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4-2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914400"/>
          <a:ext cx="8076960" cy="4952880"/>
        </p:xfrm>
        <a:graphic>
          <a:graphicData uri="http://schemas.openxmlformats.org/drawingml/2006/table">
            <a:tbl>
              <a:tblPr/>
              <a:tblGrid>
                <a:gridCol w="2895480"/>
                <a:gridCol w="1727280"/>
                <a:gridCol w="1727280"/>
                <a:gridCol w="172692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nic Dev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nd na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ic Featur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cial Featur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rant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und/Exchange Polici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son-shopping chart 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621840" y="6323400"/>
            <a:ext cx="205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4-2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187280"/>
          <a:ext cx="8229600" cy="4375440"/>
        </p:xfrm>
        <a:graphic>
          <a:graphicData uri="http://schemas.openxmlformats.org/drawingml/2006/table">
            <a:tbl>
              <a:tblPr/>
              <a:tblGrid>
                <a:gridCol w="2949480"/>
                <a:gridCol w="1760760"/>
                <a:gridCol w="1758960"/>
                <a:gridCol w="176040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 of Clothing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nd Na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 to be wor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y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rabilit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fo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fund/Exchange Polici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unit pric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8080" y="4960800"/>
          <a:ext cx="3200400" cy="106056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78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 PR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.9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 PR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OUN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ANUT BUTTER 28-oz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1" name="Picture 80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1222560" cy="1447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6602760" y="6323400"/>
            <a:ext cx="20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4-3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57200" y="838080"/>
            <a:ext cx="830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it-price indicators usually have UPC bar codes on them. It’s easy to find the best buy if you understand unit pricing. Unit pricing does the math for you!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38080" y="3749760"/>
          <a:ext cx="3200400" cy="106020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78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 PR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.9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 PR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OUN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ANUT BUTTER 18-oz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952880" y="3733920"/>
          <a:ext cx="3657600" cy="10602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78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 PR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.8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 PR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OUN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ND-NAME CANNED CO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-oz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952880" y="4952880"/>
          <a:ext cx="3657600" cy="10670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79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 PR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/$1.1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 PR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OUN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RE-BRAND CANNED CORN 15.25-oz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7" name="Picture 83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1284480" cy="1600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9"/>
          <p:cNvSpPr/>
          <p:nvPr/>
        </p:nvSpPr>
        <p:spPr>
          <a:xfrm>
            <a:off x="457200" y="160812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ich size peanut butter costs more? Which would you buy?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90"/>
          <p:cNvSpPr/>
          <p:nvPr/>
        </p:nvSpPr>
        <p:spPr>
          <a:xfrm>
            <a:off x="4724280" y="161604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uld you buy the brand-name or the store-brand corn?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son-shopping tip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e you going to the grocery store? Use these tips to save money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re the price per un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re br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eck s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ad labe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eck we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 bul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p closer, less oft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coup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p at discount st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60780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4-3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2T20:17:19Z</dcterms:modified>
  <cp:revision>25</cp:revision>
  <dc:subject/>
  <dc:title>lesson three</dc:title>
</cp:coreProperties>
</file>